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B39-DE1B-4739-ABA9-9AD52F1E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688-3BCA-4377-85F9-A6A5FEF8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726-C703-42A2-8D86-27E44E51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0F2-CB3E-498D-ACD9-774EF92B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1C6-57D6-4A97-81BA-FF080A8F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073-BFA8-44A4-9910-406803D7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6A1-D3A6-47ED-8EF2-5D06D220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1FE-1ACB-4838-8C6B-EF789695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54C-A87A-4D0F-92DD-BF5E4B6E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14B-AF6A-4384-9009-4EB634E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F4C-4C90-48EA-ABA7-5CC18869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020-10D5-4C63-9810-EFBF53DD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721F-3329-48DA-9F26-79947E9E3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____________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_____ of the cultures of _______ and ______. Spanish author, ______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______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_, and _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__ sailed west in search of a western route to __________, but instead ran into the ___________________ islands. However, his discovery spread rapidly by ____________________’s invention of the printing press.  Thus, he was considered to have “_________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ristopher Columb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ailed west in search of a western route to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ut instead ran into the __________ islands. However, his discovery spread rapidly by _______’s invention of the printing press.  Thus, he was considered to have “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ristopher Columb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ailed west in search of a western route to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ut instead ran into 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ribb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lands. However, his discovery spread rapidly by __________’s invention of the printing press.  Thus, he was considered to have “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ristopher Columb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ailed west in search of a western route to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ut instead ran into 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ribb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lands. However, his discovery spread rapidly by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utenbur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’s invention of the printing press.  Thus, he was considered to have “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ristopher Columb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ailed west in search of a western route to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ut instead ran into 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ribb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lands. However, his discovery spread rapidly by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utenbur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’s invention of the printing press.  Thus, he was considered to hav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“discovered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3352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_____________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____. He died on the way, but his crew became the first people to ___________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____________ landed in _______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3352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____. He died on the way, but his crew became the first people to ___________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____________ landed in _______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3352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___________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____________ landed in _______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____________ landed in _______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_______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______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______ of the cultures of ______ and _______. Spanish author, ______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_____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___, and 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 sailed west in search of a western route to __________, but instead ran into the ___________________ islands. However, his discovery spread rapidly by ____________________’s invention of the printing press.  Thus, he was considered to have “_________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____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____,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______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_________. ___________ landed in South 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___________ landed in South 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____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_____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ridg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growing _____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ridg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grow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_____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ridg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grow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izza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quickly conquered them (aided by the spread of _______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_______ and _____. Spanish author, _______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______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, ____, and _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_____ sailed west in search of a western route to __________, but instead ran into the ___________________ islands. However, his discovery spread rapidly by ____________________’s invention of the printing press.  Thus, he was considered to have “_________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ridg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grow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izza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quickly conquered them (aided by the spread of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ich killed millions of Indians) and claimed the land for _____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53352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erdinand Magell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et sail 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17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search of a western rout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i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He died on the way, but his crew became the first people to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ircumnavigat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52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ernan 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xi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ere he fough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Azte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ribe, who were well known for human sacrifice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Wan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gol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  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tez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feated them in battle and became known as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nquistado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Francisco Pizar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anded in South America where he came into contact with 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c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o were well known for build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ridg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growing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izzar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quickly conquered them (aided by the spread of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which killed millions of Indians) and claimed the land fo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pai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_______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__________ Exchange developed as a result of exploration as well. _____, _____, and _______ were sent to America from Europe. ______, _______, and ______ were sent from America to Europe. The effects of the Columbian exchange caused 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_________ Exchange developed as a result of exploration as well. _____, _____, and _______ were sent to America from Europe. ______, _______, and ______ were sent from America to Europe. The effects of the Columbian exchange caused 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lumbi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xchange developed as a result of exploration as well. _____, _____, and _______ were sent to America from Europe. ______, _______, and ______ were sent from America to Europe. The effects of the Columbian exchange caused 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lumbi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xchange developed as a result of exploration as wel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rs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attl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to America from Europe. _____, _______, and ______ were sent from America to Europe. The effects of the Columbian exchange caused 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lumbi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xchange developed as a result of exploration as wel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rs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attl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to America from Europe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tobac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from America to Europe. The effects of the Columbian exchange caused 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lumbi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xchange developed as a result of exploration as wel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rs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attl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to America from Europe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tobac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from America to Europe. The effects of the Columbian exchange cause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.R.O.P.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ffects of European exploration were quite significant: The European countries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.A.C.E.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o conquer the Americ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lumbi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xchange developed as a result of exploration as wel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rs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attl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smallpo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to America from Europe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otat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or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tobacc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ere sent from America to Europe. The effects of the Columbian exchange caused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C.R.O.P.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Jesuit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Catholic Church missionaries, were sent to America to convert 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__________, a very absolutist form of government. But that is expected since they were only imitating their _____ country. Spanish colonies also had a ____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_________, and economic theory that said power comes from wealth, specifically having the most______ (silver and gold). Spain had the most ______, but it caused severe 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________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______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, and 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_____ sailed west in search of a western route to __________, but instead ran into the ___________________ islands. However, his discovery spread rapidly by ____________________’s invention of the printing press.  Thus, he was considered to have “_________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_____ country. Spanish colonies also had a ____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_________, and economic theory that said power comes from wealth, specifically having the most______ (silver and gold). Spain had the most ______, but it caused severe 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____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_________, and economic theory that said power comes from wealth, specifically having the most______ (silver and gold). Spain had the most ______, but it caused severe 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_________, and economic theory that said power comes from wealth, specifically having the most______ (silver and gold). Spain had the most ______, but it caused severe 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rcantilis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economic theory that said power comes from wealth, specifically having the most______ (silver and gold). Spain had the most ______, but it caused severe 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rcantilis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economic theory that said power comes from wealth, specifically having the most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 bullio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silver and gold). Spain had the most _____, but it caused severe _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rcantilis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economic theory that said power comes from wealth, specifically having the most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 bullio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silver and gold). Spain had the most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ull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but it caused severe _______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rcantilis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economic theory that said power comes from wealth, specifically having the most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 bullio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silver and gold). Spain had the most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ull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but it caused sever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flat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(rise in prices), ruining their economy. Spain did not _____________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nish colonies were well known for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dictatorship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 very absolutist form of government. But that is expected since they were only imitating their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par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untry. Spanish colonies also had a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rigi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lass system, where people were born into a certain class and couldn’t get ou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pain believed in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mercantilis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economic theory that said power comes from wealth, specifically having the most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 bullio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silver and gold). Spain had the most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bull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but it caused severe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flat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(rise in prices), ruining their economy. Spain did not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industrializ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ike England, so it soon went into decli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_______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_, and 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_____ sailed west in search of a western route to __________, but instead ran into the ___________________ islands. However, his discovery spread rapidly by ____________________’s invention of the printing press.  Thus, he was considered to have “_________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____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__, and _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 sailed west in search of a western route to _______, but instead ran into the ________ islands. However, his discovery spread rapidly by _______’s invention of the printing press.  Thus, he was considered to have “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______, ________, and _____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 sailed west in search of a western route to ____, but instead ran into the _______ islands. However, his discovery spread rapidly by ______’s invention of the printing press.  Thus, he was considered to have “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_________________ sailed west in search of a western route to __________, but instead ran into the _________ islands. However, his discovery spread rapidly by __________’s invention of the printing press.  Thus, he was considered to have “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50021"/>
                </a:solidFill>
                <a:uFillTx/>
                <a:latin typeface="Comic Sans MS"/>
              </a:rPr>
              <a:t>Spain: History 1500-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ain’s dominant religion is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an Cathol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naissance was a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bir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cultures of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ree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Spanish author,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ervant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wrot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Quix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book that made fun of knights and medieval society. It was the first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v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a new type of liter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hree major motivations for exploration wer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ld, Glory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49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ristopher Columb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ailed west in search of a western route to __________, but instead ran into the ____________ islands. However, his discovery spread rapidly by ______’s invention of the printing press.  Thus, he was considered to have “__________” 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23:11:05Z</dcterms:created>
  <dc:creator>m ingerson</dc:creator>
  <dc:description/>
  <dc:language>en-US</dc:language>
  <cp:lastModifiedBy>Salem City  Schools</cp:lastModifiedBy>
  <dcterms:modified xsi:type="dcterms:W3CDTF">2003-05-13T10:31:37Z</dcterms:modified>
  <cp:revision>25</cp:revision>
  <dc:subject/>
  <dc:title>No Slide Title</dc:title>
</cp:coreProperties>
</file>